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B14-472C-4E9F-B20C-EF8EE133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14A-95B0-4538-A8B3-66F16C2B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BAA-FD8E-4ACD-82F3-ACF43352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DCC-22FF-404B-BE43-6A5E8CEF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DEF0-55BB-4A0C-83A9-575DF348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4600-6D6A-44D1-B83E-4B5C3046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A8BF-93BB-46B9-8205-76DE53D7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E549-4B46-4686-8A50-B221F138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84A8-3EF1-42B5-9B1A-09F17892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6F2A-9EFF-4890-A739-460A70BB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4F6B-2325-4553-9016-859902EB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F2E-8ACD-4C56-A53E-41D1A8BC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96C0-E103-4FDD-8F7C-AE1F7A86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951E-162B-4F99-989F-E1C545BB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8740-2DB2-4B95-969F-C02CF5C1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8D7A-125F-446D-A9C5-D58E9D3E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ED12-BC43-4EB2-81A6-34C1D5CA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EFB-8558-4C14-B0D5-1A8A0A48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223-C701-4C59-B551-148FD7B6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3A2-459A-411D-AECB-5C3D5D49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C59-F1F8-4AED-92DE-45363891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776-7A9D-4C26-8B5D-C5FEA0D7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AD0-CD84-4178-9472-73E33EB9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AFE-6C98-4598-B3D8-BCE555E7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22A1-A561-44D3-BCD6-10FEECA849D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5CA1-EA16-4073-963F-62D0741436D9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143000" y="2590920"/>
            <a:ext cx="71629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449280"/>
                <a:tab algn="ctr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GEOGRAFÍA CULTU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49280"/>
                <a:tab algn="ctr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SPECTOS Y CRITERIOS METODOLÓGICOS PARA LA INVESTIG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61960" cy="1076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066680" y="380880"/>
            <a:ext cx="46483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FACULTAD DE ARQUITECTURA Y URBANIS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Escuela de Geograf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828800" y="441972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rique Aliste Alm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948120" y="628812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gosto de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20:46:21Z</dcterms:created>
  <dc:creator>ealiste</dc:creator>
  <dc:description/>
  <dc:language>en-US</dc:language>
  <cp:lastModifiedBy>Pablo</cp:lastModifiedBy>
  <dcterms:modified xsi:type="dcterms:W3CDTF">2013-02-12T15:32:00Z</dcterms:modified>
  <cp:revision>135</cp:revision>
  <dc:subject/>
  <dc:title>Presentación de PowerPoint</dc:title>
</cp:coreProperties>
</file>