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3280" y="690120"/>
            <a:ext cx="4592520" cy="344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CD1C61-084D-43FE-8E9E-9132321BC54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C32029-683A-49EB-96C4-2DC0462339A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33640" y="690480"/>
            <a:ext cx="459252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A706A8-8E47-462B-BEE2-4FAC9FE458E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33640" y="690480"/>
            <a:ext cx="459252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B02-6F8F-4E97-8043-A703C3EA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35F-BD43-488B-88E9-6E6E82D8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1CD-198E-4EAB-A4C1-715A3C04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326-C929-4C85-A526-34313664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F35-B78F-4504-9C7E-48597D65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FF3-7562-4EF2-9C57-D078C6D1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1E2-ADD3-437F-BDFC-73E9A41F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7D4-E454-45B3-AF81-3B9725D4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5B2-97D7-438D-8FC4-64E89964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969-8481-4E58-A4A2-CCAA95DD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FD7-0771-4062-B492-53E07572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111-3C53-4029-971A-893BAE49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49D0-8DA2-4A0D-8FBB-23E105F39C7F}" type="datetime"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31/07/26</a:t>
            </a:fld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8FEE-04B1-40EF-A8EB-3E1B06FE7408}" type="slidenum">
              <a:rPr b="0" lang="es-CL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4" name="Object 10"/>
          <p:cNvGraphicFramePr/>
          <p:nvPr/>
        </p:nvGraphicFramePr>
        <p:xfrm>
          <a:off x="228600" y="228600"/>
          <a:ext cx="1371600" cy="136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137160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2"/>
          <p:cNvSpPr/>
          <p:nvPr/>
        </p:nvSpPr>
        <p:spPr>
          <a:xfrm>
            <a:off x="1676520" y="228600"/>
            <a:ext cx="7162560" cy="914400"/>
          </a:xfrm>
          <a:prstGeom prst="rect">
            <a:avLst/>
          </a:prstGeom>
          <a:gradFill rotWithShape="0">
            <a:gsLst>
              <a:gs pos="0">
                <a:srgbClr val="929292"/>
              </a:gs>
              <a:gs pos="50000">
                <a:srgbClr val="c0c0c0"/>
              </a:gs>
              <a:gs pos="100000">
                <a:srgbClr val="9292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>
            <a:off x="8686800" y="1143000"/>
            <a:ext cx="0" cy="54100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Line 15"/>
          <p:cNvSpPr/>
          <p:nvPr/>
        </p:nvSpPr>
        <p:spPr>
          <a:xfrm flipH="1">
            <a:off x="0" y="6629400"/>
            <a:ext cx="5943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143000" y="5334120"/>
            <a:ext cx="70866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ámara Chilena de la Construcción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2068-5193-409F-BCC9-182A3AE01A7C}" type="datetime">
              <a:rPr b="1" lang="es-ES" sz="20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914400" y="2492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TÍTULO: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SUBTÍTULO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050920" y="47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structura de la Presentación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9640" y="2133720"/>
            <a:ext cx="822960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unto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unto: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b-Punto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b-Punto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unto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5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EED8-4B93-4011-86E7-380DF0D80A33}" type="datetime"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31/07/26</a:t>
            </a:fld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3:58:46Z</dcterms:created>
  <dc:creator>Intralatina S.A</dc:creator>
  <dc:description/>
  <dc:language>en-US</dc:language>
  <cp:lastModifiedBy>Diego</cp:lastModifiedBy>
  <dcterms:modified xsi:type="dcterms:W3CDTF">2013-05-13T20:30:02Z</dcterms:modified>
  <cp:revision>762</cp:revision>
  <dc:subject/>
  <dc:title>Presentación de PowerPoint</dc:title>
</cp:coreProperties>
</file>