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4D7-081E-40C1-B8C1-35A9E79C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4C2-9C9E-4DF1-9B5B-D9F846A8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B19-E1CB-49D3-B3C3-71488E45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1FA-47C0-41D8-9101-B29B981E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A16-61CD-460A-A39E-88BF477A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A48-5895-4789-82B8-2C6F33AD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1BF-D17B-4C5F-8C7F-C4B9A57E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9B7-D379-4B2B-963B-8484B7DA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3EB-EF26-4BA7-A9F9-0E2A894F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2AC-768A-4B17-A54C-756D40FC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1D6-7B61-4F91-B86A-32CD1AA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E1A-D99E-41F2-8A1B-AD8B9CF3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E2C3-4062-4AD7-B385-9325D3F5B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3880" y="7143840"/>
            <a:ext cx="33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 And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etesh Baj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360" y="7143840"/>
            <a:ext cx="44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ation Ac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or Companion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37640" y="7110360"/>
            <a:ext cx="22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san Daf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1080" y="711684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 -0.9169 E"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 -0.9169 E">
                                      <p:cBhvr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 -0.9169 E">
                                      <p:cBhvr>
                                        <p:cTn id="22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3000" fill="hold"/>
                                        <p:tgtEl>
                                          <p:spTgt spid="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 -0.9169 E">
                                      <p:cBhvr>
                                        <p:cTn id="30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15:25:33Z</dcterms:created>
  <dc:creator>Geetesh Bajaj</dc:creator>
  <dc:description/>
  <dc:language>en-US</dc:language>
  <cp:lastModifiedBy>Geetesh Bajaj</cp:lastModifiedBy>
  <dcterms:modified xsi:type="dcterms:W3CDTF">2004-01-12T06:19:16Z</dcterms:modified>
  <cp:revision>9</cp:revision>
  <dc:subject/>
  <dc:title>Slide 1</dc:title>
</cp:coreProperties>
</file>