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584280"/>
            <a:ext cx="78264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02320" y="5261040"/>
            <a:ext cx="2382840" cy="1582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7840" y="5261040"/>
            <a:ext cx="2382840" cy="15825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08040" y="6118200"/>
            <a:ext cx="146196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553080" y="6292800"/>
            <a:ext cx="22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tlccreativ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584280"/>
            <a:ext cx="782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dpslides.com/pptfaq/FAQ00207.ht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47592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ar Wars”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yle Cred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38240" y="2371680"/>
            <a:ext cx="7066080" cy="24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This PowerPoint file has 2 text boxes with animations that create movie credits similar to the Star Wars movies. Feel free to inspect/ take-apart the animation settings to see how things were d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I also know of at least two additional resources for this style animation; Echo has a downloadable PPT file that uses motion paths, Grow/Shrink, and Fade Out effects and (2) the PPTFAQ has info and links at 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dpslides.com/pptfaq/FAQ00207.ht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4560" y="2219400"/>
            <a:ext cx="705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09520" y="5000760"/>
            <a:ext cx="705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22480" y="5156280"/>
            <a:ext cx="7065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file uses animations only available in PPT 2002-200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2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C Creative Services, in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280" y="771480"/>
            <a:ext cx="5904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s is my paragraph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tar Wars” style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e ho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t f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53320" y="3240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 Black"/>
              </a:rPr>
              <a:t>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7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7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53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53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3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53">
                                  <p:stCondLst>
                                    <p:cond delay="1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3">
                                  <p:stCondLst>
                                    <p:cond delay="1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7:06:54Z</dcterms:created>
  <dc:creator>Troy Chollar</dc:creator>
  <dc:description/>
  <cp:keywords/>
  <dc:language>en-US</dc:language>
  <cp:lastModifiedBy>TLC Creative Services</cp:lastModifiedBy>
  <dcterms:modified xsi:type="dcterms:W3CDTF">2003-12-14T21:34:08Z</dcterms:modified>
  <cp:revision>2</cp:revision>
  <dc:subject/>
  <dc:title>“Star Wars”  Style Credits</dc:title>
</cp:coreProperties>
</file>