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769-F8D4-4360-A79E-0E999334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75A-70FA-4FBC-B0C2-5C5BC7F7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938-8643-4FE6-8921-E968CC96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B2C-0343-4892-9975-6A8646D3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E882-D3D7-4BE9-A3C6-5AE6E84E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FD9-E452-4897-A6F7-05DE305D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4FF-0F42-47E9-8858-1C79471C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079-4D15-4A5A-B977-C7143AEF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34E-907A-4FEE-BEC6-F45BF089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03C-0371-465F-B887-9A3CF644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F1D-28B6-4015-B899-93218307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77E-7C31-49C1-9D45-66C7E776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38BBC-77E6-491A-82BF-40EA804B9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18:28:47Z</dcterms:created>
  <dc:creator>Daniel Rodríguez</dc:creator>
  <dc:description/>
  <dc:language>en-US</dc:language>
  <cp:lastModifiedBy>Daniel Rodríguez</cp:lastModifiedBy>
  <dcterms:modified xsi:type="dcterms:W3CDTF">2012-06-05T19:19:52Z</dcterms:modified>
  <cp:revision>4</cp:revision>
  <dc:subject/>
  <dc:title>PowerPoint Presentation</dc:title>
</cp:coreProperties>
</file>