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B47-EBDA-46C0-84D9-9AACBB34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A28-B07D-439B-B872-6D0E562E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124-DCFB-4AFD-93B5-B264BF89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AF1-EAA9-446D-9AF7-C2C97880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F8B-C7FB-42BC-BD94-4586B036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74B-566B-44F8-AE1E-5CAB6C53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828-0062-4692-9741-593D2A7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2D8-96A1-4373-B127-89E5D9E6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D1E-E103-468D-9BB5-EB35344A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B26-FA71-49A2-8323-CB2B9A8F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050-90E8-43EF-B8BF-7B4C865A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21B-57CC-43A0-B8B8-D0404CB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77CA6-D5E8-4B05-A75F-0957AA959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8:28:47Z</dcterms:created>
  <dc:creator>Daniel Rodríguez</dc:creator>
  <dc:description/>
  <dc:language>en-US</dc:language>
  <cp:lastModifiedBy>Daniel Rodríguez</cp:lastModifiedBy>
  <dcterms:modified xsi:type="dcterms:W3CDTF">2012-06-05T19:19:23Z</dcterms:modified>
  <cp:revision>3</cp:revision>
  <dc:subject/>
  <dc:title>PowerPoint Presentation</dc:title>
</cp:coreProperties>
</file>