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DD9-0F39-44CF-86DA-612390AC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6E7-BF77-441C-B024-D274146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C0E-770C-4C19-B629-FA960977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677-F224-4E14-9E1B-8903359F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2E5-64C6-4EDD-B279-2EA08D2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220-9D03-4960-A6BD-89E06E5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904-6B40-40CB-8988-C4EF854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642-538C-45E3-B672-8478832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025-032E-41BA-BA4D-3DD7D166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A9C-D650-4F7D-85E6-0439F52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A43-68F2-48C9-8EF9-70FFA02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01C-2276-427D-AE1B-526E6EC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ED76D-3988-46A3-AD6D-137DC0BEF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8:28:47Z</dcterms:created>
  <dc:creator>Daniel Rodríguez</dc:creator>
  <dc:description/>
  <dc:language>en-US</dc:language>
  <cp:lastModifiedBy>Daniel Rodríguez</cp:lastModifiedBy>
  <dcterms:modified xsi:type="dcterms:W3CDTF">2012-06-05T19:18:42Z</dcterms:modified>
  <cp:revision>2</cp:revision>
  <dc:subject/>
  <dc:title>PowerPoint Presentation</dc:title>
</cp:coreProperties>
</file>